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9DE6-3043-4B1E-85C0-4B31C2E430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0F00E-C6F7-4BF1-877E-76AE5020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727D-75EA-4B92-9E85-34E624AC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20F6F-7884-4784-B296-69B87D1C4D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0C96-9ECF-4E1D-9940-349D10DE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C0EB-7CE9-41BB-8875-02E4ACE1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4C610-2FAF-4885-B158-50543539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E1986-9278-40F5-972C-18A0E3C6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8110B-5849-469F-8120-204AA6B6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E0E2A-C3C6-471D-82B0-EE9ECB94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3146A-8EB6-408A-947C-65D54803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7E4D2-72C8-4762-94C7-325D43D4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749F-7125-4597-B224-37D8428D65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首都医科大学燕京医学院     毕桂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6994440" y="4951440"/>
            <a:ext cx="151776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 急性肾小球肾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280" y="1557360"/>
            <a:ext cx="50403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理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6520" y="333360"/>
            <a:ext cx="83865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指急性起病，表现为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水肿、血尿、蛋白尿、高血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肾小球疾患。小儿期多为急性链球菌感染后肾小球肾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季节：四季散发，冬春季多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年龄：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5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～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14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岁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多见，＜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岁罕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性别：    男∶女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=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∶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因：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组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溶血性链球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感染途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上呼吸道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" name="Picture 4" descr="1-1"/>
          <p:cNvPicPr/>
          <p:nvPr/>
        </p:nvPicPr>
        <p:blipFill>
          <a:blip r:embed="rId1"/>
          <a:stretch/>
        </p:blipFill>
        <p:spPr>
          <a:xfrm>
            <a:off x="6095880" y="2590920"/>
            <a:ext cx="26575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27A8-E808-4DAC-8CE1-41561287CE3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67652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不同感染途径所致</a:t>
            </a: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肾炎的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差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b52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呼吸道感染</a:t>
            </a:r>
            <a:r>
              <a:rPr b="0" lang="zh-CN" sz="1100" spc="-1" strike="noStrike">
                <a:solidFill>
                  <a:srgbClr val="6666ff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94360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皮肤感染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5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952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地区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95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季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2193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年龄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219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前驱期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机体免疫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9718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791320" y="312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276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温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638680" y="373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亚热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20040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冬季多见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63868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夏秋季多见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9810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6386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前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198108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左右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638680" y="5257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一般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周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平均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97964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SO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gt;80%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        ASO↑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1500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6966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感染途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目前尚不清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免疫介导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751560" y="3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球菌致肾炎菌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36920" y="399240"/>
            <a:ext cx="1826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形成循环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564000" y="83268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原位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516720" y="327960"/>
            <a:ext cx="202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诱发自身免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803760" y="1796400"/>
            <a:ext cx="140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激活补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564000" y="255996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炎症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876960" y="2803320"/>
            <a:ext cx="2271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内皮细胞增生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肿胀，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毛细血管管腔狭窄</a:t>
            </a:r>
            <a:r>
              <a:rPr b="0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79280" y="418248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ˎ̥"/>
              </a:rPr>
              <a:t>肾小球滤过率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84360" y="4863600"/>
            <a:ext cx="140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球管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5847840"/>
            <a:ext cx="294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血容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213440" y="4791240"/>
            <a:ext cx="18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7045920" y="3258360"/>
            <a:ext cx="146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627280" y="620640"/>
            <a:ext cx="64944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27640" y="765000"/>
            <a:ext cx="0" cy="6480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940360" y="620640"/>
            <a:ext cx="79236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268360" y="1484280"/>
            <a:ext cx="1366920" cy="115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4427640" y="184464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5292360" y="1341360"/>
            <a:ext cx="1871640" cy="13669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3132000" y="3357720"/>
            <a:ext cx="503280" cy="1425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3429000"/>
            <a:ext cx="86544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885080" y="4221000"/>
            <a:ext cx="0" cy="287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1258920" y="4365720"/>
            <a:ext cx="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1258920" y="5157720"/>
            <a:ext cx="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1258920" y="587700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2771640" y="5661000"/>
            <a:ext cx="1152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3419640" y="666900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4067280" y="6093000"/>
            <a:ext cx="2233440" cy="765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水肿、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3995640" y="5013360"/>
            <a:ext cx="2376720" cy="836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少尿、无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6804000" y="4581360"/>
            <a:ext cx="2089080" cy="1079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蛋白尿、血尿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管型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066680" y="189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病理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1700280"/>
            <a:ext cx="8894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驱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病例（典型病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楷体_GB2312"/>
              </a:rPr>
              <a:t>水肿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部位、性质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患儿出现初期为眼睑及颜面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渐及躯干、四肢，甚至全身。呈非凹陷性，     多为轻中度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71640" y="112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184720" cy="367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42920" y="1052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57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06668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52040" y="1768320"/>
            <a:ext cx="6908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血尿、蛋白尿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, Proteinuria 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轻者仅有镜下血尿，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70%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肉眼血尿。肉眼血尿多在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消失，转为镜下血尿。镜下血尿一般持续数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蛋白尿程度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1840" y="2165400"/>
            <a:ext cx="4537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419640" y="1916280"/>
            <a:ext cx="4968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828720" y="112536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血  尿</a:t>
            </a:r>
            <a:r>
              <a:rPr b="0" lang="zh-CN" sz="3200" spc="-1" strike="noStrike">
                <a:solidFill>
                  <a:srgbClr val="ffff66"/>
                </a:solidFill>
                <a:latin typeface="Verdana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638680" y="-609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5" descr="x0"/>
          <p:cNvPicPr/>
          <p:nvPr/>
        </p:nvPicPr>
        <p:blipFill>
          <a:blip r:embed="rId1"/>
          <a:stretch/>
        </p:blipFill>
        <p:spPr>
          <a:xfrm>
            <a:off x="1371600" y="2438280"/>
            <a:ext cx="83808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x3"/>
          <p:cNvPicPr/>
          <p:nvPr/>
        </p:nvPicPr>
        <p:blipFill>
          <a:blip r:embed="rId2"/>
          <a:stretch/>
        </p:blipFill>
        <p:spPr>
          <a:xfrm>
            <a:off x="4140360" y="2349360"/>
            <a:ext cx="771480" cy="25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x4"/>
          <p:cNvPicPr/>
          <p:nvPr/>
        </p:nvPicPr>
        <p:blipFill>
          <a:blip r:embed="rId3"/>
          <a:stretch/>
        </p:blipFill>
        <p:spPr>
          <a:xfrm>
            <a:off x="5292720" y="2421000"/>
            <a:ext cx="762120" cy="250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x5"/>
          <p:cNvPicPr/>
          <p:nvPr/>
        </p:nvPicPr>
        <p:blipFill>
          <a:blip r:embed="rId4"/>
          <a:stretch/>
        </p:blipFill>
        <p:spPr>
          <a:xfrm>
            <a:off x="6443640" y="2421000"/>
            <a:ext cx="762120" cy="24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/>
          <a:stretch/>
        </p:blipFill>
        <p:spPr>
          <a:xfrm>
            <a:off x="2843280" y="2349360"/>
            <a:ext cx="7920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2400" y="1855800"/>
            <a:ext cx="7780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高血压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ypertens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80%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高血压，多为轻度或中度增高。一般在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内随尿量增加而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6160" y="83628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 临床表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8560" y="1366200"/>
            <a:ext cx="719712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病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循环充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高血压脑病：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急性肾功能衰竭：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RF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276720" y="0"/>
            <a:ext cx="5616360" cy="4105440"/>
          </a:xfrm>
          <a:prstGeom prst="wedgeRoundRectCallout">
            <a:avLst>
              <a:gd name="adj1" fmla="val -50254"/>
              <a:gd name="adj2" fmla="val 2575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水钠潴留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血容量增加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循环负荷过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轻者 ：为气急、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HR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增快、肺部少量湿罗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重者 ：出现呼吸困难、端坐呼吸、颈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V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怒张、咳粉红色泡沫痰、两肺满布湿罗音、 心大等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。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419640" y="1844640"/>
            <a:ext cx="5724360" cy="3240000"/>
          </a:xfrm>
          <a:prstGeom prst="wedgeRectCallout">
            <a:avLst>
              <a:gd name="adj1" fmla="val -51083"/>
              <a:gd name="adj2" fmla="val 43583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血容量增加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血管痉挛脑组织缺血、缺氧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血管渗透性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    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水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BP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急剧升高＞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140/90mmHg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，伴头痛，呕吐，复视或一过性失明，重者可出现惊厥、昏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7451640" y="4149720"/>
            <a:ext cx="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3933720"/>
            <a:ext cx="5040360" cy="2592360"/>
          </a:xfrm>
          <a:prstGeom prst="wedgeEllipseCallout">
            <a:avLst>
              <a:gd name="adj1" fmla="val -52393"/>
              <a:gd name="adj2" fmla="val 38916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 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GFR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少尿、无尿，致暂时性氮质血症、电解质紊乱和代酸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常规：尿蛋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++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镜下大量红细胞，透明颗粒或红细胞管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203000~1"/>
          <p:cNvPicPr/>
          <p:nvPr/>
        </p:nvPicPr>
        <p:blipFill>
          <a:blip r:embed="rId1"/>
          <a:stretch/>
        </p:blipFill>
        <p:spPr>
          <a:xfrm>
            <a:off x="2916360" y="3213000"/>
            <a:ext cx="3724200" cy="281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液检查：稀释性贫血，血沉增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肾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链球菌感染证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ASO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血清补体测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8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  <a:ea typeface="宋体"/>
              </a:rPr>
              <a:t>对症治疗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及重症处理、防治并发症、保护肾功能、促进自然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一）一般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休息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急性期卧床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至水肿消失，血压降至正常，肉眼血尿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正常可上学，避免体育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饮食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限盐（水肿，高血压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，限水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尿少、循环充血者），限蛋白（氮质血症者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抗生素的使用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青霉素、头孢类抗生素 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0~14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68360" y="1413000"/>
            <a:ext cx="71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Times New Roman"/>
                <a:ea typeface="华文行楷"/>
              </a:rPr>
              <a:t>（二）对症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利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适应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明显水肿、少尿、高血压、高血压脑病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循环充血、肺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选择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禁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保钾利尿剂、渗透性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常用：速尿、氢氯噻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6899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 硝苯地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卡托普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型病例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高血压及高血压脑病的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轻者利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首选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止惊：地西泮静脉推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小儿泌尿系统解剖生理特点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泌尿道感染的病原体、急性肾衰竭的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急性肾小球肾炎、肾病综合征的定义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明肾小球肾炎的病因和发病机制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小球肾炎和肾病综合征临床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炎性肾病与单纯性肾病的临床特点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小球肾炎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病综合征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对急性肾衰竭患儿进行正确护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A2B6-AF85-4D36-8CE9-65527136A7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严重循环充血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格限制水钠入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利尿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减轻心脏负荷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透析治疗</a:t>
            </a:r>
            <a:r>
              <a:rPr b="1" lang="en-US" sz="31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(Hemodialysis)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肾功能不全的处理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限制入液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重病例行透析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0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6668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-10800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肾小球滤过率下降、水钠潴留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水钠潴留、血压升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高血压脑病、严重循环充血、急性肾衰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儿和家长缺乏本病护理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八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饮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用药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9000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卧床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：待水肿消失，血压降至正常、肉眼血尿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下床轻微活动：血压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消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肉眼血尿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上学（免体育课）：血沉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4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生活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ddis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计数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5280" y="1484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性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限制水钠盐的入量，予高糖、维生素、适量蛋白和脂肪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钠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60~120mg/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氮质血症：限制水和蛋白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.5k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尿量、血压正常，水肿消退渐过渡到普通饮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84360" y="1341360"/>
            <a:ext cx="79246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测体重：每日或隔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留尿检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记出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水肿明显使用利尿剂测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血压明显增高应用降压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病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予半卧位、吸氧、速尿、  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4360" y="1773360"/>
            <a:ext cx="7924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予半卧位、吸氧、速尿、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55640" y="1628640"/>
            <a:ext cx="8153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概念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以肾小球基膜通透性增高为主的一组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征，临床特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：单纯性、肾炎性、先天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肾病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3960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二）输尿管  宽、弯曲，易发生尿潴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4" descr="59540e722dbcab73"/>
          <p:cNvPicPr/>
          <p:nvPr/>
        </p:nvPicPr>
        <p:blipFill>
          <a:blip r:embed="rId1"/>
          <a:stretch/>
        </p:blipFill>
        <p:spPr>
          <a:xfrm>
            <a:off x="4788000" y="1557360"/>
            <a:ext cx="413856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-1116000" y="2060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8360" y="278136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肾  相对较大、位置较低、分叶状 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2~4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岁，分叶消失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4859280" y="2205000"/>
            <a:ext cx="11527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4858920" y="3716280"/>
            <a:ext cx="13683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64000" y="1844640"/>
            <a:ext cx="1295280" cy="5763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十二胸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40360" y="2708280"/>
            <a:ext cx="647640" cy="14414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907920"/>
            <a:ext cx="558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单纯性肾病（微小病变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细胞免疫功能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4356000" y="20606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932360" y="1844640"/>
            <a:ext cx="38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静电屏障作用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156360" y="3141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70456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漏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56360" y="4508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858280" y="51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298240" y="552600"/>
            <a:ext cx="39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炎性肾病（非微小病变性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复合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733920" y="21337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780280" y="2708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激活补体，凝血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损坏基底膜分子屏障作用（断裂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780000" y="40766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548160" y="47242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非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血尿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0" y="33336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68580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2292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性增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85800" y="23623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32000" y="2924280"/>
            <a:ext cx="91224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511640" y="3573360"/>
            <a:ext cx="912240" cy="10688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H="1" flipV="1" rot="16200000">
            <a:off x="646920" y="3695400"/>
            <a:ext cx="761760" cy="381240"/>
          </a:xfrm>
          <a:custGeom>
            <a:avLst/>
            <a:gdLst>
              <a:gd name="textAreaLeft" fmla="*/ 0 w 761760"/>
              <a:gd name="textAreaRight" fmla="*/ 653040 w 76176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90920" y="3962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21336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容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4343400" y="3886200"/>
            <a:ext cx="0" cy="5335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4197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4876920" y="266688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351040" y="22860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553080" y="2514600"/>
            <a:ext cx="0" cy="7621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5351040" y="35053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醛固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 flipV="1">
            <a:off x="6443640" y="3573000"/>
            <a:ext cx="0" cy="846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359320" y="4648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交感神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钠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6781680" y="266688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485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7772400" y="2743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560720" y="17524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晶体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8763120" y="1981080"/>
            <a:ext cx="0" cy="609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7696080" y="1523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69609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利尿剂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 flipV="1">
            <a:off x="8763120" y="914040"/>
            <a:ext cx="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27"/>
          <p:cNvSpPr/>
          <p:nvPr/>
        </p:nvSpPr>
        <p:spPr>
          <a:xfrm rot="10800000">
            <a:off x="5866920" y="1218960"/>
            <a:ext cx="685800" cy="685800"/>
          </a:xfrm>
          <a:custGeom>
            <a:avLst/>
            <a:gdLst>
              <a:gd name="textAreaLeft" fmla="*/ 0 w 685800"/>
              <a:gd name="textAreaRight" fmla="*/ 587880 w 68580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7772400" y="40384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788960" y="4572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AutoShape 30"/>
          <p:cNvSpPr/>
          <p:nvPr/>
        </p:nvSpPr>
        <p:spPr>
          <a:xfrm>
            <a:off x="1752480" y="457200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1404360" y="4792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肝脂蛋白合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 flipV="1">
            <a:off x="3962520" y="4723920"/>
            <a:ext cx="0" cy="685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33"/>
          <p:cNvSpPr/>
          <p:nvPr/>
        </p:nvSpPr>
        <p:spPr>
          <a:xfrm>
            <a:off x="1752480" y="54100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1607040" y="5783400"/>
            <a:ext cx="115596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脂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AutoShape 35"/>
          <p:cNvSpPr/>
          <p:nvPr/>
        </p:nvSpPr>
        <p:spPr>
          <a:xfrm>
            <a:off x="7086600" y="35812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AutoShape 36"/>
          <p:cNvSpPr/>
          <p:nvPr/>
        </p:nvSpPr>
        <p:spPr>
          <a:xfrm>
            <a:off x="2195640" y="328464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2050920" y="220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胶体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Line 38"/>
          <p:cNvSpPr/>
          <p:nvPr/>
        </p:nvSpPr>
        <p:spPr>
          <a:xfrm>
            <a:off x="3708360" y="2852640"/>
            <a:ext cx="0" cy="4017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2411280" y="62064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AutoShape 40"/>
          <p:cNvSpPr/>
          <p:nvPr/>
        </p:nvSpPr>
        <p:spPr>
          <a:xfrm>
            <a:off x="2916360" y="19162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2871000" y="1197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V="1">
            <a:off x="6804000" y="4797000"/>
            <a:ext cx="0" cy="825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发病机制与病理生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027160" y="968400"/>
            <a:ext cx="28641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四大临床特征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5076720" y="263700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22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必具条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611280" y="1484280"/>
            <a:ext cx="80168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单纯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~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，男∶女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=2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度水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可凹性，眼睑，面部，全身，胸水，腹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大量蛋白尿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丢失蛋白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低蛋白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以白蛋白下降为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胆固醇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mage4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0230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295280" y="20239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1" name="Picture 3" descr="ns4"/>
          <p:cNvPicPr/>
          <p:nvPr/>
        </p:nvPicPr>
        <p:blipFill>
          <a:blip r:embed="rId1"/>
          <a:srcRect l="23258" t="25582" r="0" b="0"/>
          <a:stretch/>
        </p:blipFill>
        <p:spPr>
          <a:xfrm>
            <a:off x="609480" y="3471840"/>
            <a:ext cx="188604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ns5"/>
          <p:cNvPicPr/>
          <p:nvPr/>
        </p:nvPicPr>
        <p:blipFill>
          <a:blip r:embed="rId2"/>
          <a:stretch/>
        </p:blipFill>
        <p:spPr>
          <a:xfrm>
            <a:off x="2666880" y="347184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ns7"/>
          <p:cNvPicPr/>
          <p:nvPr/>
        </p:nvPicPr>
        <p:blipFill>
          <a:blip r:embed="rId3"/>
          <a:srcRect l="11763" t="0" r="21570" b="52943"/>
          <a:stretch/>
        </p:blipFill>
        <p:spPr>
          <a:xfrm>
            <a:off x="609480" y="1033560"/>
            <a:ext cx="2057400" cy="19368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3838680" y="1158840"/>
            <a:ext cx="4343400" cy="181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下行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凹陷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严重者可有体腔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708360" y="476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ˎ̥"/>
              </a:rPr>
              <a:t>    </a:t>
            </a: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宋体"/>
              </a:rPr>
              <a:t>水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6" name="Picture 8" descr="help_04"/>
          <p:cNvPicPr/>
          <p:nvPr/>
        </p:nvPicPr>
        <p:blipFill>
          <a:blip r:embed="rId5"/>
          <a:stretch/>
        </p:blipFill>
        <p:spPr>
          <a:xfrm>
            <a:off x="8229600" y="6138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幻灯片12"/>
          <p:cNvPicPr/>
          <p:nvPr/>
        </p:nvPicPr>
        <p:blipFill>
          <a:blip r:embed="rId6"/>
          <a:stretch/>
        </p:blipFill>
        <p:spPr>
          <a:xfrm>
            <a:off x="5148360" y="3716280"/>
            <a:ext cx="3047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2-4-1"/>
          <p:cNvPicPr/>
          <p:nvPr/>
        </p:nvPicPr>
        <p:blipFill>
          <a:blip r:embed="rId1"/>
          <a:stretch/>
        </p:blipFill>
        <p:spPr>
          <a:xfrm>
            <a:off x="2036880" y="1371600"/>
            <a:ext cx="544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1662120" y="1738440"/>
            <a:ext cx="58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763640" y="1125360"/>
            <a:ext cx="55785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肾炎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以上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相对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肉眼血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氮质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补体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迁延反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4584600"/>
            <a:ext cx="861048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4" descr="59540e722dbcab73"/>
          <p:cNvPicPr/>
          <p:nvPr/>
        </p:nvPicPr>
        <p:blipFill>
          <a:blip r:embed="rId1"/>
          <a:stretch/>
        </p:blipFill>
        <p:spPr>
          <a:xfrm>
            <a:off x="4643280" y="1484280"/>
            <a:ext cx="413892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68360" y="155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2349360"/>
            <a:ext cx="41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三）膀胱  位置较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容量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ml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=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年龄（岁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+2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×3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四）尿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女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尿道短，口径相对较宽，近肛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男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包皮过长或包茎。易引起上行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954080" y="1052640"/>
            <a:ext cx="473868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并发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病原：病毒常见，细菌中肺炎球菌多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部位：呼吸道＞泌尿道或皮肤＞ 腹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电解质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原因：禁盐、大剂量利尿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常见：低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N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C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高凝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：血液浓缩、高脂血症、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位：肾静脉血栓常见，下腔静脉血栓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动脉血栓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生长延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  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性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+++ ~ ++++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量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mg/kg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偶见少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W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肾炎型肾病可见较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R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及颗粒管型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血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浆总蛋白＜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血清白蛋白＜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白、球比例倒置；血胆固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&gt;5.7mmol/L;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明显增快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;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5" name="Picture 4" descr="1-4-1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肾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尿量极少时可有暂性肾功能障碍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U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r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炎型肾病可有不同程度肾功能异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血清补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血清补体多正常，肾炎型肾病血清补体多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一般治疗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休息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卧床休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饮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限水钠的摄入，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r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摄入优质动物蛋白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，注意补钙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各种微量元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防治感染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一旦发生感染应及时治疗，各种预防接种应推迟到肾病完全缓解且停用激素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后进行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对症治疗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儿虽有水肿但有效循环血量减少，故利尿需特别注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（三）激素治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3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上腺糖皮质激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本病的机制可能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免疫抑制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尿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肾小球滤过膜的通透性，减少尿蛋白滤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3748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则：</a:t>
            </a:r>
            <a:r>
              <a:rPr b="1" i="1" lang="zh-CN" sz="3600" spc="-1" strike="noStrike" u="sng">
                <a:solidFill>
                  <a:srgbClr val="ff33cc"/>
                </a:solidFill>
                <a:uFillTx/>
                <a:latin typeface="楷体_GB2312"/>
                <a:ea typeface="楷体_GB2312"/>
              </a:rPr>
              <a:t>足量、长疗程、个体化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短程疗法：泼尼松＜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  <a:ea typeface="楷体_GB2312"/>
              </a:rPr>
              <a:t>中、长程疗法：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泼尼松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个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冲击疗法：甲基强的松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395280" y="804960"/>
            <a:ext cx="874872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注意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始量要足、减量要慢、维持要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疗效判断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敏感 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尿蛋白转阴，浮肿消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耐药：满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仍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依赖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，停药或减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复发，重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以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4365720"/>
            <a:ext cx="85899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包括反复）：激素停用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由阴转阳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，为复发；激素应用过程中，出现为反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频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半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，或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31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免疫抑制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14480" y="1700280"/>
            <a:ext cx="891540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环磷酰胺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CTX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主要通过影响核酸复制而发挥细胞毒性作用，主要作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细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法：口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~2.5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静脉冲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0~12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× 2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近期副作用 ：胃肠道反应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减少、脱发、 肝功能损害、出血性膀胱炎等。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远期副作用 ：性腺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其他：苯丁酸氮芥、环孢霉素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、雷公藤多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五）其他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   肝素、潘生丁、保肾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剂   左旋咪唑、丙种球蛋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ACE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   卡托普利、依那普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肾功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小球滤过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低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肾功能达成人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肾浓缩功能差，尿最高渗透压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Osm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12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79280" y="1484280"/>
            <a:ext cx="869184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健康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血压、腹围、体重水肿部位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性质，及时采取标本，做尿常规检查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心理</a:t>
            </a: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-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社会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解患儿及家长对本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认识程度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05920" y="6019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46ca6"/>
                </a:solidFill>
                <a:latin typeface="Times New Roman"/>
                <a:ea typeface="宋体"/>
              </a:rPr>
              <a:t>.</a:t>
            </a:r>
            <a:endParaRPr b="0" lang="en-US" sz="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护理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457200" y="1295280"/>
            <a:ext cx="83962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液过多  与低蛋白血症、钠水潴留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皮肤完整性受损的危险  与水肿引起局部循环障碍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感染的危险  与抵抗力下降、激素等应用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受伤的危险  与高血压引起惊厥昏迷摔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我形象紊乱  与长期应用激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焦虑  与疾病及预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潜在并发症：药物的副作用、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previousslide"/>
          </p:cNvPr>
          <p:cNvSpPr/>
          <p:nvPr/>
        </p:nvSpPr>
        <p:spPr>
          <a:xfrm>
            <a:off x="7667640" y="573264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预期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内水肿消退，体液分布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能摄入足够的营养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未并发皮肤损伤及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无高血压、电解质紊乱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对外形改变造成的影响有正确的认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对疾病有了较正确的认识，焦虑心情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685800" y="533520"/>
            <a:ext cx="76960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限盐：明显水肿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/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血压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优质蛋白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多种维生素、微量元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预防皮肤、尿路、呼吸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激素治疗护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尿蛋白、尿量、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白细胞计数、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抗凝和溶栓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监测出凝血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39640" y="1197000"/>
            <a:ext cx="8153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激素治疗的重要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关心、爱护患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做好定期门诊随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79160"/>
            <a:ext cx="8610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rinary tract infection, UT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病原体直接侵入尿路，在尿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 泌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细菌（最常见）、真菌、支原体及病毒。多数为革兰阴性菌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为大肠埃希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行感染：最多见，尤其是女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源性感染：多发生于新生儿及小婴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淋巴感染：结肠肝曲与右肾间有淋巴相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感染：临近组织器官病变或器械检查，留置导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泌尿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天畸形、尿路梗阻、膀胱输尿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抵抗感染功能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急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期：全身症状为主。发热，体温不升，皮肤苍白，体重不增。腹泻、腹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幼儿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期：发热，腹痛肾区叩痛，遗尿。尿频，急，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慢性感染：病程迁延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个月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与尿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陈代谢旺盛，进水量多，但膀胱容量少，故排尿次数频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1440" y="3284640"/>
          <a:ext cx="4226040" cy="2396880"/>
        </p:xfrm>
        <a:graphic>
          <a:graphicData uri="http://schemas.openxmlformats.org/drawingml/2006/table">
            <a:tbl>
              <a:tblPr/>
              <a:tblGrid>
                <a:gridCol w="1057320"/>
                <a:gridCol w="1055880"/>
                <a:gridCol w="1056960"/>
                <a:gridCol w="105588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出生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周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学龄前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~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0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5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~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21"/>
          <p:cNvSpPr/>
          <p:nvPr/>
        </p:nvSpPr>
        <p:spPr>
          <a:xfrm>
            <a:off x="68436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058800" y="27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每日排尿次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00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涂片找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影像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治疗  早期积极应用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疗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感染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~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发者：小剂量，每晚睡前服用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  与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异常  与泌尿道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药物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2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一般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饮食：足够热量，丰富蛋白质和维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对症护理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会阴部清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送检尿标本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段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用药护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健康教育：定期复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66AC-16F3-4227-BE66-E1544FC445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66200" y="1341360"/>
            <a:ext cx="79941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隶书"/>
                <a:ea typeface="隶书"/>
              </a:rPr>
              <a:t>尿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每昼夜尿量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ml)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婴幼儿    学龄前     学龄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00~600    600~800   800~1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少尿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200          &lt;300           &lt;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无尿        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50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尿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&gt;2.5~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倍正常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色及酸碱度：淡黄色透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蛋白：定性（－），定量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/H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/HP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计数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dis  cou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管型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蛋白质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34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12:52:07Z</dcterms:modified>
  <cp:revision>37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